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3CC6-6383-4114-B1BA-C9F7CAAC8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CA1-F57D-49EE-8DE3-14BF2F2D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B7F-78BE-45B3-86A8-F5237CD6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654-8066-4168-BA3A-7F82E4B5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18A-EF9E-4155-882F-E896DC46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79E-0B0B-42B2-A184-A6D38F81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2B9-6E50-490C-95DD-9516CDC4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DE0-F3DE-4D2D-A5D4-CF4A3E88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CF4-F67D-4C4F-A3F4-DD6D6D60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0C8-B19B-407E-A9DE-EEC4A307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3FF-0B90-4F88-A4C8-419A0C9D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63F-395D-4049-A0B1-1D02261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1D9-E322-4B47-BDF7-717634A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2B33-4D99-4D03-89CB-E09958FBD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Thoughts about CP Vio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Blois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. D. Pecc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UC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581280" cy="3294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learly very important to look for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deviati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KM paradig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data and theory do not permit us still to make any such pronoun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A. Hocker et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CK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lso for CP-violating effects, coming from Higgs sector. However, effects not easy to fi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 with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iggs doublet is very special, sinc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ermit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ll parameters in Higgs potential r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n one Higgs doublet, potential in general contains possible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CP-violating ph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However, even then there are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 with 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2 Higgs doub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general poten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written as sum of terms, reflecting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specific symme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362320" y="1676520"/>
                <a:ext cx="26668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∗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t xml:space="preserve">λ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∗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371600" y="4267080"/>
                <a:ext cx="4800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χ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χ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φ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φ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structure of V, it is useful to recall that under  the weak hypercharg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U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</a:t>
            </a:r>
            <a:r>
              <a:rPr b="0" lang="en-US" sz="2800" spc="-1" strike="noStrike" baseline="30000">
                <a:solidFill>
                  <a:srgbClr val="ff0066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;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0066"/>
                </a:solidFill>
                <a:latin typeface="Times New Roman"/>
              </a:rPr>
              <a:t>-i </a:t>
            </a:r>
            <a:r>
              <a:rPr b="0" lang="en-US" sz="28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</a:t>
            </a:r>
            <a:r>
              <a:rPr b="0" lang="en-US" sz="2800" spc="-1" strike="noStrike" baseline="30000">
                <a:solidFill>
                  <a:srgbClr val="ff0066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different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y,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(1)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P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invoked to se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ynamically. It requires, instead that Higgs fields transform 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;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owing for a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chi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formation of the qu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one can consider 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symmetry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nvoked t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prevent FCN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enomena, allow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uple only t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;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; 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-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; u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u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ll Higgs potential  has 3 pie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V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U(2)xU(1)xU(1)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PQ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ariant;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SU(2)xU(1)x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riant; while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SU(2)xU(1)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riant. One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0" y="3352680"/>
                <a:ext cx="6070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δ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Cφ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δ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Cφ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2133720"/>
                <a:ext cx="7315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χ</m:t>
                        </m:r>
                        <m:r>
                          <m:t xml:space="preserve">∗</m:t>
                        </m:r>
                        <m:r>
                          <m:t xml:space="preserve">χ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φ</m:t>
                        </m:r>
                        <m:r>
                          <m:t xml:space="preserve">∗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χ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χ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φ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∗</m:t>
                            </m:r>
                            <m:r>
                              <m:t xml:space="preserve">χ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χ</m:t>
                            </m:r>
                            <m:r>
                              <m:t xml:space="preserve">∗</m:t>
                            </m:r>
                            <m:r>
                              <m:t xml:space="preserve">φ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χ</m:t>
                            </m:r>
                            <m:r>
                              <m:t xml:space="preserve">∗</m:t>
                            </m:r>
                            <m:r>
                              <m:t xml:space="preserve">χ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∗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0" y="4038480"/>
                <a:ext cx="9144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sup>
                        </m:sSup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Cφ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Cφ</m:t>
                                </m:r>
                              </m:e>
                            </m:d>
                          </m:e>
                          <m:sup/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iδ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Cφ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δ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χ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t xml:space="preserve">Cφ</m:t>
                                    </m:r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χ</m:t>
                            </m:r>
                            <m:r>
                              <m:t xml:space="preserve">∗</m:t>
                            </m:r>
                            <m:r>
                              <m:t xml:space="preserve">χ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iδ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Cφ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δ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χ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t xml:space="preserve">Cφ</m:t>
                                    </m:r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∗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at, if one asks that V be just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U(2)xU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riant, the Higgs potential V=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4 phases: </a:t>
            </a:r>
            <a:r>
              <a:rPr b="0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99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;</a:t>
            </a:r>
            <a:r>
              <a:rPr b="0" lang="en-US" sz="2800" spc="-1" strike="noStrike" baseline="-25000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99ff"/>
                </a:solidFill>
                <a:latin typeface="Times New Roman"/>
              </a:rPr>
              <a:t>12 </a:t>
            </a: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99ff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99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all of these phases, and associated interactions, are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abs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(1)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P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good symmet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nly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esent, one additional Higgs phase </a:t>
            </a:r>
            <a:r>
              <a:rPr b="0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99ff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ars in potential. But, this phase gives </a:t>
            </a: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physical  eff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Branco Lavoura Sil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</a:t>
            </a:r>
            <a:r>
              <a:rPr b="0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99ff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correl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hase of Higgs VEV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33cc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&gt;=v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33cc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&gt;=v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33cc33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ation of Higgs potential V=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ires that:  sin (</a:t>
            </a:r>
            <a:r>
              <a:rPr b="0" lang="en-US" sz="28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99ff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check that all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P-vio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henomena, like e.g. A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, are proportional to the  phase (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H+H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sin (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remarkably, even with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2 Hig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ublets, the requirement that there be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o FC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.e. that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good symmetry)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ev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appearance of any other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P-violating ph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sides the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CKM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number of corollaries to this result. For instance, in 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invisible ax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ls, where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U(1)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broken at a scale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&gt;&gt;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dditional low-energy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P-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sues in Higgs sect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nvisible ax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ls, the spontaneous breaking of an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U(1)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2i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;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s to give an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additional complex te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yon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ow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also here the phase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gives rise to any physical CP violating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, of course possible, to get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iggs sector CP violating eff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omplicating the theory. The simplest case introduces an additional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ing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85800" y="1752480"/>
                <a:ext cx="6705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δ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Cφ</m:t>
                            </m:r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δ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Cφ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&gt;=</m:t>
                        </m:r>
                        <m:sSup>
                          <m:e>
                            <m:r>
                              <m:t xml:space="preserve">κ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≡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ing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ood symmetry, but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posing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U(1)</a:t>
            </a:r>
            <a:r>
              <a:rPr b="0" lang="en-US" sz="3200" spc="-1" strike="noStrike" baseline="-25000">
                <a:solidFill>
                  <a:srgbClr val="9900cc"/>
                </a:solidFill>
                <a:latin typeface="Times New Roman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o that V=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, it is possible to have a 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Higgs sector CP 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the introduction of an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xtra singl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r field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vided that under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can add to V a,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-invari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otential te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9900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4000">
                <a:solidFill>
                  <a:srgbClr val="9900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33cc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i</a:t>
            </a:r>
            <a:r>
              <a:rPr b="0" lang="en-US" sz="3200" spc="-1" strike="noStrike" baseline="30000">
                <a:solidFill>
                  <a:srgbClr val="9900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4000">
                <a:solidFill>
                  <a:srgbClr val="9900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33cc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)*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s a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VE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out of the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s: </a:t>
            </a:r>
            <a:r>
              <a:rPr b="0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9900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and 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linear combination gives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hysical CP-violating eff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&gt;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uses again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omain wa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not clear model is sensible cosmolog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, however, if one introduces a sufficientl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licated Higgs se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tually it is possible to  have som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ontriv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P-violating ph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example is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Weinber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3 Higgs doub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l in which there are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P-violating ph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sociated to the couplings of  charged Higgs,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9900cc"/>
                </a:solidFill>
                <a:latin typeface="Times New Roman"/>
                <a:ea typeface="Times New Roman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leptons and quar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models can give rise to new observable phenomena, like the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ransverse 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polar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 baseline="30000">
                <a:solidFill>
                  <a:srgbClr val="33cc33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33cc33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30000">
                <a:solidFill>
                  <a:srgbClr val="33cc33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One fi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&lt;P</a:t>
            </a:r>
            <a:r>
              <a:rPr b="0" lang="en-US" sz="32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(M</a:t>
            </a:r>
            <a:r>
              <a:rPr b="0" lang="en-US" sz="3200" spc="-1" strike="noStrike" baseline="30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80808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/M</a:t>
            </a:r>
            <a:r>
              <a:rPr b="0" lang="en-US" sz="3200" spc="-1" strike="noStrike" baseline="30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80808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m g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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g*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an effect not present in CKM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SUSY and CP-Viol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37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take multi-Higgs model seriously, since there is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o physical mot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se the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respect,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SUSY exten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M have a much better pedigree.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P-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se models, however, is largely a function of the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assumed SUSY symmetry brea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SUSY 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urally has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gs doublets, 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V=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parameters taking particular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Thoughts about CP Vio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Violating CP is not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CP Violation and the Scalar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SUSY and CP-Vi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What should we look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Concluding r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ithout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SUSY brea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V also does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eak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SU(2)xU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o need soft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USY br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implest example: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USY brea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gravity medi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s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lavor bl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this case,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P-violating ph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ear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gluino mas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alar Yukawa int.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bilinear scalar term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h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iggsino mass te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se phases are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 exampl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6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know this phase is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114800" y="2895480"/>
                <a:ext cx="4419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Γ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φ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Γ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χ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6002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43400" y="4114800"/>
                <a:ext cx="2057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χ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C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 is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generating CP-violating interactions, but in keeping the SUSY induced effects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belo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presently obser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Flavor pre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P violation phenomena, lik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neutron ed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ypically, [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Dugan Grinstein H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ne fi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~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               </a:t>
            </a:r>
            <a:r>
              <a:rPr b="0" lang="en-US" sz="2800" spc="-1" strike="noStrike" baseline="5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A,B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6.3 x 10</a:t>
            </a:r>
            <a:r>
              <a:rPr b="0" lang="en-US" sz="2800" spc="-1" strike="noStrike" baseline="30000">
                <a:solidFill>
                  <a:srgbClr val="9900cc"/>
                </a:solidFill>
                <a:latin typeface="Times New Roman"/>
              </a:rPr>
              <a:t>-26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ec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     is a typical spartner mass and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A,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P-violating phases in the SUSY breaking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Flavor viol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ions due to SUSY matter entering in loops. These may, or may not, involve CP vio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14600" y="2666880"/>
                <a:ext cx="13208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V</m:t>
                            </m:r>
                          </m:num>
                          <m:den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600200" y="3352680"/>
                <a:ext cx="6858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-60480"/>
            <a:ext cx="899172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USY CP vio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ffects in the flavor sector depend, in general, on how one assumes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USY induced flavor vio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ffects are controlled [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Dine Kramer Nir Shad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Univers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&lt;      </a:t>
            </a:r>
            <a:r>
              <a:rPr b="0" lang="en-US" sz="3200" spc="-1" strike="noStrike" baseline="4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2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Alig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Heavy squa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   &gt;&gt;T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n middle case effects are likely to be measurable, although predictions are rather model dependent e.g.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Masiero Piai 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l with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K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es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hase in quark-squark mix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then has a resulting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P asymmetry for 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8120" y="2133720"/>
                <a:ext cx="685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114800" y="2133720"/>
                <a:ext cx="685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19520" y="3657600"/>
                <a:ext cx="685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3200" y="2895480"/>
                <a:ext cx="1523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52280"/>
            <a:ext cx="899172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all data is in good agreement with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CKM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t the moment all one has ar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quark mass splitt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on mixing angles in the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gluino couplin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, results of a recent analysis [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Becirevic et 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give for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-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71600" y="2133720"/>
                <a:ext cx="48769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t xml:space="preserve">j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sSub>
                      <m:e>
                        <m:r>
                          <m:t xml:space="preserve">g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86000" y="48769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What should we look fo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ly important to pin down th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unitarity tri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o check the consistency of all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flavor-chang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CP-vi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iginating solely from single CKM phase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C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context of th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KM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 of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 sid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triangle is as important as measurement of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however, what is important is to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discover evi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addi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P-violating ph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st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irect 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P-violation ar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Hig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sons with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mixed C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 scalars in SUSY models, at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tree 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well defined CP: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9900cc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9900cc"/>
                </a:solidFill>
                <a:latin typeface="Times New Roman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h, H </a:t>
            </a:r>
            <a:r>
              <a:rPr b="0" lang="en-US" sz="2800" spc="-1" strike="noStrike">
                <a:solidFill>
                  <a:srgbClr val="9900cc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9900cc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is may be vitiated by CP-violating </a:t>
            </a: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loop eff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ing stops and sbottoms, which mix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 h, H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[Pilaftsi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can look for CP-violating couplings of Higgs, 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difficult to measure CP-odd pieces with much accuracy at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LH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However,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NL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better.  Typically one is sensitive to mixing at the level of [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Conway et 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LHC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b/a ~ 30%;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NL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b/a ~ 4%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other h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where to look f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981080" y="2819520"/>
                <a:ext cx="3276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4572000" cy="281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from the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Universe’s baryon asym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there are other CP-violating phases, besides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CK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ely possible that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asymmet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nected to 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SUSY CP-vio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hases at the weak scale. However, parameter space is rather limi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ligh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edge of disco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Qu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91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ly, and more intriguing, is that the CP phase responsible for the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baryon asym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nected to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hases in the neutrino sect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ukugita Yanagi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equilibrium decays of heavy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Majorana neutrin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~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V) establishes a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lepton asym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T~M.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KRS mechan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mutes this asymmetry into a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baryon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en,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iffic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relate directly the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aryon asymmetry CP p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ossible low energy CP violating phenomena in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the neutrino sector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Hambye; Hernande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places where, conceivably, can extract information on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P 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neutrino sector: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-oscill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(0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)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es are in some sense complementary, and sensitive to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P-violating phas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-oscillations     </a:t>
            </a:r>
            <a:r>
              <a:rPr b="0" lang="en-US" sz="3200" spc="-1" strike="noStrike">
                <a:solidFill>
                  <a:srgbClr val="3333ff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en-US" sz="3200" spc="-1" strike="noStrike" baseline="-20000">
                <a:solidFill>
                  <a:srgbClr val="3333ff"/>
                </a:solidFill>
                <a:latin typeface="Times New Roman"/>
              </a:rPr>
              <a:t>C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(0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) decay    </a:t>
            </a:r>
            <a:r>
              <a:rPr b="0" lang="en-US" sz="3200" spc="-1" strike="noStrike">
                <a:solidFill>
                  <a:srgbClr val="ff0066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0000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scill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provide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direct 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CP violation, whil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double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-dec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more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indirect in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both cases experimental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challen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enorm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Blon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scil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eriments to successfully detect CP-violation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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ear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hooz b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[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sin</a:t>
            </a:r>
            <a:r>
              <a:rPr b="0" lang="en-US" sz="3200" spc="-1" strike="noStrike" baseline="30000">
                <a:solidFill>
                  <a:srgbClr val="33cc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&lt;0.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one has to be able to see differences between    and      oscill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double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-dec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eglecting 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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ssuming a normal hierarchy, [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Petco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error in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extraction of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0000">
                <a:solidFill>
                  <a:srgbClr val="ff0066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difficult [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Barger et 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733920" y="1447920"/>
                <a:ext cx="1371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371600" y="2057400"/>
                <a:ext cx="44197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KM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[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KM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371600" y="4495680"/>
                <a:ext cx="3886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ϕ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iolating CP is not ea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,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der 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perators are replaced by their Hermitian adjoints: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9900cc"/>
                </a:solidFill>
                <a:latin typeface="Times New Roman"/>
              </a:rPr>
              <a:t>+</a:t>
            </a:r>
            <a:r>
              <a:rPr b="0" lang="en-US" sz="3200" spc="-1" strike="noStrike" baseline="30000">
                <a:solidFill>
                  <a:srgbClr val="9900cc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, t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9900cc"/>
                </a:solidFill>
                <a:latin typeface="Times New Roman"/>
              </a:rPr>
              <a:t>-</a:t>
            </a:r>
            <a:r>
              <a:rPr b="0" lang="en-US" sz="3200" spc="-1" strike="noStrike" baseline="30000">
                <a:solidFill>
                  <a:srgbClr val="9900cc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30000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(-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, 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(0)=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(i)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tically,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der 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O(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, t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O*(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-x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,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Hermit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a Lagrangian containing the operator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th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a*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O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-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, neither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0000">
                <a:solidFill>
                  <a:srgbClr val="ff0066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en-US" sz="3200" spc="-1" strike="noStrike" baseline="-20000">
                <a:solidFill>
                  <a:srgbClr val="3333ff"/>
                </a:solidFill>
                <a:latin typeface="Times New Roman"/>
              </a:rPr>
              <a:t>CK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rectly related to the CP-phases that control leptogenesis, except for particular circumsta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ryon asymmetry is given by the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-8/15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-8/15[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washout factor,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g*~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umber      of degrees of freedom and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CP asymmetry in the decay of the heavy neutrino.[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Berezhia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articular </a:t>
            </a:r>
            <a:r>
              <a:rPr b="0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nected to neutrino Yukawa coupling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9900c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 baseline="-25000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l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en-US" sz="3200" spc="-1" strike="noStrike" baseline="-20000">
                <a:solidFill>
                  <a:srgbClr val="3333ff"/>
                </a:solidFill>
                <a:latin typeface="Times New Roman"/>
              </a:rPr>
              <a:t>CK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0000">
                <a:solidFill>
                  <a:srgbClr val="ff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so depend on the electron Yukawa coupling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9900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upling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 task is to get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dditional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experimental in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CP-vio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s of this are very good: </a:t>
            </a: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B facto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dedicated collider B-experi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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edm search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searches for 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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CP-vi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important to understand if simpl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KM paradig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lains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 violation phenomena in the hadronic sector and if there is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gnal of CP violation in th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leptonic s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heoretical s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mportant to take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h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garding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P 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rious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3333ff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 is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onserv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d=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brok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d=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3333ff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in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d=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diffic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reak CP: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no strong 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need scalar se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no FCNC </a:t>
            </a:r>
            <a:r>
              <a:rPr b="0" lang="en-US" sz="3200" spc="-1" strike="noStrike">
                <a:solidFill>
                  <a:srgbClr val="ff66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no Higgs ph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ust strictly control SUSY brea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3333ff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mena of quite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ifferent magnitu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explained by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am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P-violating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KM p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~10</a:t>
            </a:r>
            <a:r>
              <a:rPr b="0" lang="en-US" sz="3200" spc="-1" strike="noStrike" baseline="30000">
                <a:solidFill>
                  <a:srgbClr val="33cc33"/>
                </a:solidFill>
                <a:latin typeface="Times New Roman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’/</a:t>
            </a: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~ 10</a:t>
            </a:r>
            <a:r>
              <a:rPr b="0" lang="en-US" sz="3200" spc="-1" strike="noStrike" baseline="30000">
                <a:solidFill>
                  <a:srgbClr val="00cc99"/>
                </a:solidFill>
                <a:latin typeface="Times New Roman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66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66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 baseline="-25000">
                <a:solidFill>
                  <a:srgbClr val="ff66ff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-25000">
                <a:solidFill>
                  <a:srgbClr val="ff66ff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~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it be that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CP-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iginates from simpl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geometrical p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[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guess: </a:t>
            </a:r>
            <a:r>
              <a:rPr b="0" lang="en-US" sz="3200" spc="-1" strike="noStrike">
                <a:solidFill>
                  <a:srgbClr val="ff66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/N</a:t>
            </a:r>
            <a:r>
              <a:rPr b="0" lang="en-US" sz="3200" spc="-1" strike="noStrike" baseline="-25000">
                <a:solidFill>
                  <a:srgbClr val="ff66ff"/>
                </a:solidFill>
                <a:latin typeface="Times New Roman"/>
              </a:rPr>
              <a:t>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musing </a:t>
            </a: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CKM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=(59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±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13)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, one sees that,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der 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nly if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a= a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CP- 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- vi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having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uctures in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this per se may not be su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2-generations 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complex Yukawa couplings, but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no physical 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phases appear in the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in some cases, expected CP violation, actually not seen at all (e.g.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trong 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d long ago [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Strominger Witten; Dine, Leigh, MacInt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] that in 10-dimensional heterotic string theory,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bed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discrete subgroup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auge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erm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dj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s as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inversion in 6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ct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in these theories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P violating eff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ise as result of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10d </a:t>
            </a:r>
            <a:r>
              <a:rPr b="0" lang="en-US" sz="32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4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ctification and, in principle, one may be able to compute the resulting  4d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CP-violating ph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underlying geo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[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4 dimensions, theory involving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only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erm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gauge 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P-conserv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cc33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Adj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up to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ological nature of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n-Abeli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auge theory vacu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ow presence of CP-violating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Howev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U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chir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&lt; 10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1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f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edm&lt; 6.3 x 10</a:t>
            </a:r>
            <a:r>
              <a:rPr b="0" lang="en-US" sz="3200" spc="-1" strike="noStrike" baseline="30000">
                <a:solidFill>
                  <a:srgbClr val="9900cc"/>
                </a:solidFill>
                <a:latin typeface="Times New Roman"/>
              </a:rPr>
              <a:t>-26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e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3505320"/>
                <a:ext cx="396252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a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den>
                        </m:f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ron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den>
                        </m:f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trong C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blem is still unresolved. Four possibilities bruited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happens to be small [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hy!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u-quark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massless [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unlikely?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n extra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U(1)</a:t>
            </a:r>
            <a:r>
              <a:rPr b="0" lang="en-US" sz="2800" spc="-1" strike="noStrike" baseline="-25000">
                <a:solidFill>
                  <a:srgbClr val="ff66ff"/>
                </a:solidFill>
                <a:latin typeface="Times New Roman"/>
              </a:rPr>
              <a:t>P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y [</a:t>
            </a: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axions?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Siki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 is 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pontaneously brok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bly small [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troubles with low energy CP violation and cosmology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ever the reason fo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lt; 10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ear that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rib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observed CP-vi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connected to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flavor-changing tran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o presence of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lavor neut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te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have other origin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ar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ary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cala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uld imagine formation of 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ermion condens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more like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break CP spontaneous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difficult to reconcile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pontaneous CP brea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sm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Kobzarev Okun Zeldov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om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different CP in Universe separated by walls which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issipate slow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Universe coo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density in walls         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v~ 250 G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2120" y="1371600"/>
                <a:ext cx="1676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q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257800" y="1447920"/>
                <a:ext cx="2514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T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724280" y="5791320"/>
                <a:ext cx="1447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σ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P Violation and the Scalar Sec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of the above considerations, it is very natural to assume that the experimentally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observed CP 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ue to the presence of a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calar se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ed, all data both in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ays are perfectly consistent with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CP 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ing due to the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CKM paradig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[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Bur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omplex Yukawa coupl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P 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3 or more gen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6T14:53:28Z</dcterms:created>
  <dc:creator>Roberto Peccei</dc:creator>
  <dc:description/>
  <dc:language>en-US</dc:language>
  <cp:lastModifiedBy>Roberto Peccei</cp:lastModifiedBy>
  <dcterms:modified xsi:type="dcterms:W3CDTF">2002-08-24T07:46:46Z</dcterms:modified>
  <cp:revision>45</cp:revision>
  <dc:subject/>
  <dc:title>Thoughts about CP Violation</dc:title>
</cp:coreProperties>
</file>