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DF7-B425-43DE-BB4A-BF5B9D7F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52F-326C-44FC-B475-0EB7732E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D7B3-1657-493F-9DF1-15B6F8CB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8AEE-B5F9-42AC-B07F-A0B06513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E4A4-7FB3-4E00-AD37-0034E708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3803-4105-41DD-99F1-7A4D10A1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D22-F719-4985-B2AD-35AEF0AC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D9A-D285-4446-A071-0710D9D8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52AA-E1C5-44AC-8F68-CF278520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6661-A91A-4EC1-B68D-1F03B523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44A7-FE9F-49C7-A740-FB6A7EA9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AAF-090A-4A1B-A32A-BBE987B5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8C0B-50D8-4F98-B247-A0C7E7DD0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article Cosm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ymbiosis between Particle Physics and Cosm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Big Bang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CMBR and Nucleo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flation and its Con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ark Matter and Dark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ryoge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cluding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917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s in detail on the number of relativistic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degrees of freed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that tim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Beca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cc66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30]{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 +7/8[2.2 +2</a:t>
            </a:r>
            <a:r>
              <a:rPr b="0" lang="en-US" sz="28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cc66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cc6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finds,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(22 + 7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/6</a:t>
            </a:r>
            <a:r>
              <a:rPr b="0" lang="en-US" sz="2800" spc="-1" strike="noStrike" baseline="30000">
                <a:solidFill>
                  <a:srgbClr val="00cc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Nucleosynthe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gins at a lower temperature,        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0.1 MeV, when the neutrons are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transfor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deuter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n, eventually, into </a:t>
            </a:r>
            <a:r>
              <a:rPr b="0" lang="en-US" sz="2800" spc="-1" strike="noStrike" baseline="30000">
                <a:solidFill>
                  <a:srgbClr val="cc00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dition [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~n</a:t>
            </a:r>
            <a:r>
              <a:rPr b="0" lang="en-US" sz="2800" spc="-1" strike="noStrike" baseline="-25000">
                <a:solidFill>
                  <a:srgbClr val="008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depends on the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baryon dens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Bolzman factor </a:t>
            </a:r>
            <a:r>
              <a:rPr b="0" lang="en-US" sz="2800" spc="-1" strike="noStrike">
                <a:solidFill>
                  <a:srgbClr val="00cc66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cc66"/>
                </a:solidFill>
                <a:latin typeface="Times New Roman"/>
              </a:rPr>
              <a:t>B/ T</a:t>
            </a:r>
            <a:r>
              <a:rPr b="0" lang="en-US" sz="2800" spc="-1" strike="noStrike" baseline="10000">
                <a:solidFill>
                  <a:srgbClr val="00cc66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2800" spc="-1" strike="noStrike">
                <a:solidFill>
                  <a:srgbClr val="00cc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deuteron binding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related to</a:t>
            </a:r>
            <a:r>
              <a:rPr b="0" lang="en-US" sz="2800" spc="-1" strike="noStrike">
                <a:solidFill>
                  <a:srgbClr val="0066ff"/>
                </a:solidFill>
                <a:latin typeface="Symbol"/>
                <a:ea typeface="Symbol"/>
              </a:rPr>
              <a:t>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 n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/n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, since this ratio is temperature independ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[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66ff"/>
                </a:solidFill>
                <a:latin typeface="Symbol"/>
                <a:ea typeface="Symbol"/>
              </a:rPr>
              <a:t>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e results for the isotope fractions depend on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990000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From </a:t>
            </a:r>
            <a:r>
              <a:rPr b="0" lang="en-US" sz="3200" spc="-1" strike="noStrike" baseline="30000">
                <a:solidFill>
                  <a:srgbClr val="cc00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bundance one fin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1.2 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N </a:t>
            </a:r>
            <a:r>
              <a:rPr b="0" lang="en-US" sz="3200" spc="-1" strike="noStrike" baseline="-25000">
                <a:solidFill>
                  <a:srgbClr val="993300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 &lt; 3.3   [99% CL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ordanc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2.6x10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-10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&lt;6.3x10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-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86200" y="1828800"/>
            <a:ext cx="4343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lation and its Con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lue of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d from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nucleosynthe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ows one to determine the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baryon energy dens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Universe n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M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M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)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V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2.4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V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value 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2-4)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(T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(T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3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8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0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cc00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V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h=0.71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±0.07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Hubble constant uncertaint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 now Universe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tter domin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cc66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cc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800" spc="-1" strike="noStrike">
                <a:solidFill>
                  <a:srgbClr val="00cc66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cc66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.03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ses an important issue           [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latness 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To get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ems to require an enormou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e tu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Einstein’s equ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imp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t)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/[1-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(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wher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(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[k/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/[8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ate Universe, when matter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lang="en-US" sz="2800" spc="-1" strike="noStrike">
                <a:solidFill>
                  <a:srgbClr val="008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T </a:t>
            </a: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refor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(T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(T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[T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/ T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*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0.1 eV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diation dominate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lang="en-US" sz="2800" spc="-1" strike="noStrike">
                <a:solidFill>
                  <a:srgbClr val="008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T </a:t>
            </a: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u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(T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(T*)[T* / T]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(T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-32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(T*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-7.6 x 10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At temperatures of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lanck sca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~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GeV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(T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-7.6 x 10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-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that to ge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ed t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e tu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–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O(10</a:t>
            </a:r>
            <a:r>
              <a:rPr b="0" lang="en-US" sz="2800" spc="-1" strike="noStrike" baseline="30000">
                <a:solidFill>
                  <a:srgbClr val="cc00cc"/>
                </a:solidFill>
                <a:latin typeface="Times New Roman"/>
              </a:rPr>
              <a:t>-60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Why should this be 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f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Guth Steinhardt Lin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provides solution to this (and other) conundru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vacuum ener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minates at early times, so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 8</a:t>
            </a:r>
            <a:r>
              <a:rPr b="0" lang="en-US" sz="28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/3</a:t>
            </a:r>
            <a:r>
              <a:rPr b="0" lang="en-US" sz="2800" spc="-1" strike="noStrike">
                <a:solidFill>
                  <a:srgbClr val="0066ff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H</a:t>
            </a:r>
            <a:r>
              <a:rPr b="0" lang="en-US" sz="28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v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scale factor grows exponential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R(t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 e </a:t>
            </a:r>
            <a:r>
              <a:rPr b="0" lang="en-US" sz="2800" spc="-1" strike="noStrike" baseline="30000">
                <a:solidFill>
                  <a:srgbClr val="0066ff"/>
                </a:solidFill>
                <a:latin typeface="Times New Roman"/>
              </a:rPr>
              <a:t>H</a:t>
            </a:r>
            <a:r>
              <a:rPr b="0" lang="en-US" sz="2800" spc="-1" strike="noStrike" baseline="10000">
                <a:solidFill>
                  <a:srgbClr val="0066ff"/>
                </a:solidFill>
                <a:latin typeface="Times New Roman"/>
              </a:rPr>
              <a:t>vac</a:t>
            </a:r>
            <a:r>
              <a:rPr b="0" lang="en-US" sz="2800" spc="-1" strike="noStrike" baseline="30000">
                <a:solidFill>
                  <a:srgbClr val="cc00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apid expansion effectively set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/R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o  that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t)=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That is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fter inflationary peri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Uni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expansion has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no curva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rm [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flatness 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replaced by another problem. If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0.0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othe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97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Universe’s energy dens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 [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dark matter &amp; dark ener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addressing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dark matter &amp; dark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ant to make some comments 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f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flationary mode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Universe assume the existence of a scalar field,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flaton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ose dynamics drives the scale facto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(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onentially exp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period [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t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f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rts a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 potential energ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=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sociated with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inates ove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8000"/>
                </a:solidFill>
                <a:latin typeface="Times New Roman"/>
              </a:rPr>
              <a:t>ra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potentials start with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ing either large 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 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 small 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5057640"/>
            <a:ext cx="66294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rolls slow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way from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 that it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inetic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ve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ime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&gt;&gt; H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cale of Universe expands by  factor of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&gt;&g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lecting spatial variations, durin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f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olution of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s on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shape o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V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66680" y="2362320"/>
                <a:ext cx="647712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  <m:sSub>
                                  <m:e>
                                    <m:r>
                                      <m:t xml:space="preserve">πG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523880" y="5334120"/>
                <a:ext cx="4419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H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ϕ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9917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w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kinetic energ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s important,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rehe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fl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scillates about the minimum an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flaton energ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lea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restoring a thermal Unive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models fo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chao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et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],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unfortunately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n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ve direct connection to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particle phys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an important prediction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f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at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quantum fluctu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nfl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eld will lead to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fluctu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energy dens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Univer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fluctu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ose size can be bigger than the horiz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u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nflationary peri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&gt;&gt; H</a:t>
            </a:r>
            <a:r>
              <a:rPr b="0" lang="en-US" sz="3200" spc="-1" strike="noStrike" baseline="30000">
                <a:solidFill>
                  <a:srgbClr val="cc00cc"/>
                </a:solidFill>
                <a:latin typeface="Times New Roman"/>
              </a:rPr>
              <a:t>-1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in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int in the 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fter inf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fluctu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ll appear as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matter density perturb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the horizon [which grows as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cc00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(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] reaches their size: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(t) </a:t>
            </a:r>
            <a:r>
              <a:rPr b="0" lang="en-US" sz="3200" spc="-1" strike="noStrike">
                <a:solidFill>
                  <a:srgbClr val="008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(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CMBR fluctu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flect the inflaton potential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one can try to reconstruc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observation of these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density perturb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to study these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perturb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Fourier space and look at their associated power spectrum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P(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Density fluctu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Power spectr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served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power spectr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termined from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alaxy surve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from the observed fluctuations in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MB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  At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large sca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expect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(k) ~ k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inf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dicts a nearly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cale invari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pectrum: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99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This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power spectr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redicts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ata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γ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1.8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n =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γ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=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maller sca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ehavior is model dependent and encoded in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nsfer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T(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(k) ~ k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T(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267080" y="457200"/>
                <a:ext cx="41277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&gt;</m:t>
                    </m:r>
                    <m:f>
                      <m:num/>
                      <m:den>
                        <m:r>
                          <m:t xml:space="preserve">ρ</m:t>
                        </m:r>
                        <m:r>
                          <m:t xml:space="preserve">&gt;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i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048120" y="1219320"/>
                <a:ext cx="2266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80880" y="4495680"/>
                <a:ext cx="52578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γ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ymbiosis between Particle Physics and Cosmolog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rticle Phys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osmolo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ve a symbiotic relationshi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rticle Physics  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Short Distance Phy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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High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High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osmology  </a:t>
            </a:r>
            <a:r>
              <a:rPr b="0" lang="en-US" sz="3200" spc="-1" strike="noStrike">
                <a:solidFill>
                  <a:srgbClr val="008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Early Universe Phy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from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2df Galaxy Redshift surv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monstrates this quite well.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olid li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obtained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with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neutri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tribution to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ile the other lines have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= 0.01; 0.0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one normalizes                                                               at low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B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lear neutri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t-off at high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4876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Gawiser &amp; Si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6294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ark Matter and Dark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MBR 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O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ontributing 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(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ow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bservationally represented very small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anisotropi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hoton spectrum                 [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T/T ~ 10</a:t>
            </a:r>
            <a:r>
              <a:rPr b="0" lang="en-US" sz="3200" spc="-1" strike="noStrike" baseline="30000">
                <a:solidFill>
                  <a:srgbClr val="cc00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seen on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large angular sca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99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~ 10</a:t>
            </a:r>
            <a:r>
              <a:rPr b="0" lang="en-US" sz="3200" spc="-1" strike="noStrike">
                <a:solidFill>
                  <a:srgbClr val="99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fluctuations are of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lar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ough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wave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 that they likely reflect directly the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primordial perturb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 up by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nf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turbations 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maller sca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owever, will have bee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ff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icrophys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gravitation and pressure) in perio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hotons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decoupl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t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recon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~0.3 e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will have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T/T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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T/T )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primord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physics induces a series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cale depend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aks and troughs in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T/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ppler pea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gular scale where fluctuations will show up is of O(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~1/ k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di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the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hotons travel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nce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recombin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s on the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geomet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k = {1, -1, 0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Unive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rough which the photons travel,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o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Doppler peaks in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help determine if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Unive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clo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fl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99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={&gt;1, 1&lt;,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ary to expa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 to see Dopp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aks in </a:t>
            </a: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l ~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1 /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28600" y="5410080"/>
                <a:ext cx="42670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T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m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otropy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∗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  <m:r>
                              <m:t xml:space="preserve">m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l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 of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rst Doppler pea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easily distinguish between a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fl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n </a:t>
            </a:r>
            <a:r>
              <a:rPr b="0" lang="en-US" sz="2800" spc="-1" strike="noStrike">
                <a:solidFill>
                  <a:srgbClr val="00cc66"/>
                </a:solidFill>
                <a:latin typeface="Times New Roman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verse. Indeed, data from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BOOMERa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MAXI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DAS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B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 1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± 0.0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evers et 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3286080" cy="3886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8120" y="2133720"/>
            <a:ext cx="58957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MBR resul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ives credence to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inflationary scenar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uggests that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so raises question of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what 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sides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0.03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es to Universe’s energy dens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e-199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swer was that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0.9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some form of non-luminous matter[ 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dark mat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fter 199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s result of the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upernova Cosmology Pro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High-z Supernova Te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we have ascertained that only about 30% of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ue to 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dark mat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th the remaining 70% being some form of 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dark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experiments set out to meausure the Universe’s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deceleration parame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found the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wrong sig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[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iverse is accelerating!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Einste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equ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ives rate of change of    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ing that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=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at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expect tha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ter domin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ra wher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=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  expect  positive deceleration para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1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, instead,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- ½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mplies that either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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-1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8001000" y="0"/>
                <a:ext cx="365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286000" y="685800"/>
                <a:ext cx="38098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¨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ρ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057400" y="3048120"/>
                <a:ext cx="4343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7200" y="4419720"/>
                <a:ext cx="2362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ifficul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believe these results signify the presence of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smological const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ince value now of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/3H 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cc00cc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0.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rresponds to a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vacuum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8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8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(2.3x 10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-3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eV)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prefer to associate the effect seen to the presence of some 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dark energy compon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ading to significant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negative press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 &lt;-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/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D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D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th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DM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 0.3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DE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0.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an associate 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dark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a new scalar field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quintess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then Supernova data fixes preferred value for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-0.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114800" cy="4629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267080" y="380880"/>
            <a:ext cx="449604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46920" indent="-646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osmolog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timately mus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the laws of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rticle phys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probes many aspects of particle physics- some of which are quite unkn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6920" indent="-646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Planck-scale Phys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gravitational strength in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6920" indent="-646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Physics of Light Excit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effects of 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6920" indent="-646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Very Long-lived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states stabl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n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6920" indent="-646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ymmetry Breakd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hase trans. in Uni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6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6920" indent="-646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ely, early Universe phenomen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mpac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le physics, For example,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nucleosynthe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imits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 baseline="38000">
                <a:solidFill>
                  <a:srgbClr val="008000"/>
                </a:solidFill>
                <a:latin typeface="Times New Roman"/>
              </a:rPr>
              <a:t>eff</a:t>
            </a:r>
            <a:r>
              <a:rPr b="0" lang="en-US" sz="3200" spc="-1" strike="noStrike" baseline="38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aryogene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gues for certain sources of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P vio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 to motivate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quintess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particle physics. One needs, in present epoch,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0.7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-0.4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  H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~ R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-3(1+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contribution of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quintessen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-0.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wa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ss import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n that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tt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arli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Universe. So the field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ynam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seen also since                        . On the other hand one has also that                           . These equations imply that the field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large: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~G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cc00cc"/>
                </a:solidFill>
                <a:latin typeface="Times New Roman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62120" y="1600200"/>
                <a:ext cx="74674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8</m:t>
                            </m:r>
                            <m:sSub>
                              <m:e>
                                <m:r>
                                  <m:t xml:space="preserve">π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8</m:t>
                            </m:r>
                            <m:sSub>
                              <m:e>
                                <m:r>
                                  <m:t xml:space="preserve">π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267080" y="5334120"/>
                <a:ext cx="2438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ϕ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ϕ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114800" y="4876920"/>
                <a:ext cx="2286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9917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such large fields </a:t>
            </a:r>
            <a:r>
              <a:rPr b="0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 is impossible to get                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8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(2.3x 10</a:t>
            </a: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-3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eV)</a:t>
            </a: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less </a:t>
            </a:r>
            <a:r>
              <a:rPr b="0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nearly zero m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~ V</a:t>
            </a:r>
            <a:r>
              <a:rPr b="0" lang="en-US" sz="2800" spc="-1" strike="noStrike" baseline="30000">
                <a:solidFill>
                  <a:srgbClr val="0066ff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/ </a:t>
            </a:r>
            <a:r>
              <a:rPr b="0" lang="en-US" sz="2800" spc="-1" strike="noStrike">
                <a:solidFill>
                  <a:srgbClr val="0066ff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~ 10</a:t>
            </a:r>
            <a:r>
              <a:rPr b="0" lang="en-US" sz="2800" spc="-1" strike="noStrike" baseline="30000">
                <a:solidFill>
                  <a:srgbClr val="0066ff"/>
                </a:solidFill>
                <a:latin typeface="Times New Roman"/>
              </a:rPr>
              <a:t>-31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ess </a:t>
            </a:r>
            <a:r>
              <a:rPr b="0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es not couple to anything, difficult to understand how t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ven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m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getting a big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adiative mass shi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[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Kolda Ly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dark ener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US" sz="2800" spc="-1" strike="noStrike">
                <a:solidFill>
                  <a:srgbClr val="00cc66"/>
                </a:solidFill>
                <a:latin typeface="Times New Roman"/>
              </a:rPr>
              <a:t>myst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rom the point of view of </a:t>
            </a:r>
            <a:r>
              <a:rPr b="0" lang="en-US" sz="2800" spc="-1" strike="noStrike">
                <a:solidFill>
                  <a:srgbClr val="00cc66"/>
                </a:solidFill>
                <a:latin typeface="Times New Roman"/>
              </a:rPr>
              <a:t>particle phys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re at leas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oo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article phys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dark m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didates: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neutralin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ax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spectrum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(k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that the DM b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lativistic at decoup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to let smaller structures survive the evolution,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eliminating neutrin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possible DM candid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USY exten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SM in general assume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USY brok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weak sca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R-parity conserv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rticles R=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particles R=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Hence lightest SUSY particle (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LS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LS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excellent candidate fo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ld Dark Mat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ecause generically will produce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CDM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ories whe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USY brea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riggered by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gravitational scale intera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most natural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LS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lightest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neutrali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324480" y="1143000"/>
                <a:ext cx="2590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bSup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438280" y="5486400"/>
                <a:ext cx="4191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ζ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acc>
                      <m:accPr>
                        <m:chr m:val="~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acc>
                      <m:accPr>
                        <m:chr m:val="~"/>
                      </m:accPr>
                      <m:e>
                        <m:r>
                          <m:t xml:space="preserve">φ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χ</m:t>
                        </m:r>
                      </m:sub>
                    </m:sSub>
                    <m:acc>
                      <m:accPr>
                        <m:chr m:val="~"/>
                      </m:accPr>
                      <m:e>
                        <m:r>
                          <m:t xml:space="preserve">χ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Neutralino D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thermal rel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Because  they ar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ld D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ir interaction rat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D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oe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ut of equilibr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Universe [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CD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at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 &lt;&lt; m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CD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As a result, because of Boltzman factor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CD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&lt;&lt; 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theless, one can determine this density since, at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CD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 n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CD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&lt;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&gt; =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H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CD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= H(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/ &lt;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&gt; ~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f</a:t>
            </a:r>
            <a:r>
              <a:rPr b="0" lang="en-US" sz="3200" spc="-1" strike="noStrike" baseline="30000">
                <a:solidFill>
                  <a:srgbClr val="00cc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 &lt;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an compute the contribution of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neutralin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sing that: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CD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CD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[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]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CD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CD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m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CDM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[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/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[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CDM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[1 /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, typically,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CDM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, one 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CD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Neutralin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ve typically a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wea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-average cross sec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naturall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USY theor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roken at the electroweak scale can provide the require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ld dark mat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rate for det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neutralino dark mat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ll be proportional to the 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local neutralino dens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CD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s the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neutralino- nucle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oss section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nuc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ions show fo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USY mode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range of the expecte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CD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as well as the reach of present experiments. Clear that more sensitivity would help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09480" y="1066680"/>
                <a:ext cx="6629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num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3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 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e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ottino Fornengo Scop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874800"/>
            <a:ext cx="754380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x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(pseudo) Goldstone bosons associated with a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spontaneously brok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iral symmetry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U(1)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P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ich solves dynamically the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trong CP 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[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 10</a:t>
            </a:r>
            <a:r>
              <a:rPr b="0" lang="en-US" sz="3200" spc="-1" strike="noStrike" baseline="30000">
                <a:solidFill>
                  <a:srgbClr val="00cc66"/>
                </a:solidFill>
                <a:latin typeface="Times New Roman"/>
              </a:rPr>
              <a:t>-16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 ecm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 exp: &lt; 6.3 x10</a:t>
            </a:r>
            <a:r>
              <a:rPr b="0" lang="en-US" sz="3200" spc="-1" strike="noStrike" baseline="30000">
                <a:solidFill>
                  <a:srgbClr val="00cc66"/>
                </a:solidFill>
                <a:latin typeface="Times New Roman"/>
              </a:rPr>
              <a:t>-26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 ec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U(1)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P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dynamical field-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xion a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cale of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U(1)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P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reak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 QCD anoma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x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potential an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~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cc66"/>
                </a:solidFill>
                <a:latin typeface="Times New Roman"/>
              </a:rPr>
              <a:t>2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QCD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 / 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=6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eV (10</a:t>
            </a:r>
            <a:r>
              <a:rPr b="0" lang="en-US" sz="3200" spc="-1" strike="noStrike" baseline="30000">
                <a:solidFill>
                  <a:srgbClr val="00cc66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 GeV/ f 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x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non-thermal rel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At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T 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PQ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~ f &gt;&gt; G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F</a:t>
            </a:r>
            <a:r>
              <a:rPr b="0" lang="en-US" sz="3200" spc="-1" strike="noStrike" baseline="30000">
                <a:solidFill>
                  <a:srgbClr val="cc00cc"/>
                </a:solidFill>
                <a:latin typeface="Times New Roman"/>
              </a:rPr>
              <a:t>-1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QCD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noma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t effe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x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real Goldstone bosons and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 ~ &lt;a&gt;/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514600" y="2590920"/>
                <a:ext cx="3276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8</m:t>
                        </m:r>
                        <m:r>
                          <m:t xml:space="preserve">π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d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Universe cools  towards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QCD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~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QCD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QC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oma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ffe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x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ts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&lt;a&gt;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xation of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&lt;a&gt;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scillatory [coherent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xion oscill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and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ax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tributes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ld D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initial 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&lt;a&gt; = f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initial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~ 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ompute the contribution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xion oscill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dynamical equation for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&lt;a&gt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s that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ax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versely proportional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371600" y="4952880"/>
                <a:ext cx="5029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&gt;+</m:t>
                    </m:r>
                    <m:r>
                      <m:t xml:space="preserve">3</m:t>
                    </m:r>
                    <m:r>
                      <m:t xml:space="preserve">H</m:t>
                    </m:r>
                    <m:r>
                      <m:t xml:space="preserve">&lt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&gt;+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&gt;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ed result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ax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0.5[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 / 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7/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being tested by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LLNL cavity experi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Halo ax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onv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phot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presence of a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magnetic fie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=g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E.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pling g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lightly model dependent [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KSV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DFS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and the expected signal depends on an estimate of the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halo dens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halo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0.5 GeV/cm</a:t>
            </a:r>
            <a:r>
              <a:rPr b="0" lang="en-US" sz="3200" spc="-1" strike="noStrike" baseline="30000">
                <a:solidFill>
                  <a:srgbClr val="cc00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exclude axions in the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.27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 &lt; 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&lt; 3.34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nd thu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ax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0.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KSVZ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0.45 GeV/cm</a:t>
            </a:r>
            <a:r>
              <a:rPr b="0" lang="en-US" sz="3200" spc="-1" strike="noStrike" baseline="30000">
                <a:solidFill>
                  <a:srgbClr val="cc00cc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for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KSVZ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3 GeV/cm</a:t>
            </a:r>
            <a:r>
              <a:rPr b="0" lang="en-US" sz="3200" spc="-1" strike="noStrike" baseline="30000">
                <a:solidFill>
                  <a:srgbClr val="cc00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xion DM almost ruled ou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sztalos et 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LNL axion experi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72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ig Bang Mod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olution of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mogene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sotropic Unive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scribed by the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Robertson Walk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ric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R(t)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e factor ;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k={1,-1,0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{closed,open,flat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Matter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scribed by a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perfect flu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-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(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instein’s equ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duc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90720" y="1981080"/>
                <a:ext cx="64767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dθ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dφ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23880" y="5486400"/>
                <a:ext cx="52578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≡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sSub>
                          <m:e>
                            <m:r>
                              <m:t xml:space="preserve">π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ρ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aryogen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ppears that the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Universe is matter domin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th little or no antimatter. Theoretically this is puzzling since one finds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ore matter than one would expect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Big Bang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Universe starts out a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ery h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th all particl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pecies in equilibr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ter + antimatter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and annihilation of matter and antimatter equally probable in the early Universe. However,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as Universe expands it cools d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temperature of Universe goes below          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 ~ 1 Ge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inverse annihil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energetically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block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p +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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irect process,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 +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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2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s to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ur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otons and antiprotons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into phot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ve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ar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 state which wa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tter - antimatter symmetr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would expect now the density of matter (and of antimatter) to be very small compared to that of phot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ions estimate that  the Universe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would have:                                                              </a:t>
            </a:r>
            <a:r>
              <a:rPr b="0" lang="en-US" sz="3200" spc="-1" strike="noStrike">
                <a:solidFill>
                  <a:srgbClr val="cc0099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 baseline="-25000">
                <a:solidFill>
                  <a:srgbClr val="cc0099"/>
                </a:solidFill>
                <a:latin typeface="Times New Roman"/>
              </a:rPr>
              <a:t>Matter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 = n</a:t>
            </a:r>
            <a:r>
              <a:rPr b="0" lang="en-US" sz="3200" spc="-1" strike="noStrike" baseline="-25000">
                <a:solidFill>
                  <a:srgbClr val="cc009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/n</a:t>
            </a:r>
            <a:r>
              <a:rPr b="0" lang="en-US" sz="3200" spc="-1" strike="noStrike" baseline="-25000">
                <a:solidFill>
                  <a:srgbClr val="cc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 ~ 10</a:t>
            </a:r>
            <a:r>
              <a:rPr b="0" lang="en-US" sz="3200" spc="-1" strike="noStrike" baseline="30000">
                <a:solidFill>
                  <a:srgbClr val="cc0099"/>
                </a:solidFill>
                <a:latin typeface="Times New Roman"/>
              </a:rPr>
              <a:t>-18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     </a:t>
            </a:r>
            <a:r>
              <a:rPr b="0" lang="en-US" sz="3200" spc="-1" strike="noStrike">
                <a:solidFill>
                  <a:srgbClr val="cc0099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cc0099"/>
                </a:solidFill>
                <a:latin typeface="Times New Roman"/>
              </a:rPr>
              <a:t>Matter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  ~ </a:t>
            </a:r>
            <a:r>
              <a:rPr b="0" lang="en-US" sz="3200" spc="-1" strike="noStrike">
                <a:solidFill>
                  <a:srgbClr val="cc0099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 baseline="-25000">
                <a:solidFill>
                  <a:srgbClr val="cc0099"/>
                </a:solidFill>
                <a:latin typeface="Times New Roman"/>
              </a:rPr>
              <a:t>Antimatter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048120" y="1676520"/>
                <a:ext cx="4572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89917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edictions are badly wr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 Not only do we see essentiall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 antimat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ut we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2.6x10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-10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&lt;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&lt; 6.3x10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-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at there is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uch more matter than exp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ult for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makes sense only if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meausure of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/n</a:t>
            </a:r>
            <a:r>
              <a:rPr b="0" lang="en-US" sz="32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s a meausure of some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 primordial asymmet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=[(n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Matter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- n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Antimatter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Primordial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] / n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istence of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mordial matter-antimatter asym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ises a deep question. Can th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sym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plain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laws of physic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60880" indent="-560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rkably, in 1967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drei Sakharo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unciated  three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physical cond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would allow a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matter-antimatter asym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be established by physical processes in the early Univer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9480" indent="-491040">
              <a:lnSpc>
                <a:spcPct val="9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Theory m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violate nucleon numb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stablish an asymmetry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there must 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cesses where matter (or antimatter) can disappear, otherwise  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6600cc"/>
                </a:solidFill>
                <a:latin typeface="Times New Roman"/>
              </a:rPr>
              <a:t>Matter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 - n</a:t>
            </a:r>
            <a:r>
              <a:rPr b="0" lang="en-US" sz="2800" spc="-1" strike="noStrike" baseline="-25000">
                <a:solidFill>
                  <a:srgbClr val="6600cc"/>
                </a:solidFill>
                <a:latin typeface="Times New Roman"/>
              </a:rPr>
              <a:t>Antimatter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 const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)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Nucleon number-violating processes must be out of       equilibrium in Univers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quilibriu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es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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;  p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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oy and create matter and antimatter equally effectively, sinc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cesses are revers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)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Laws of nature must violate C and C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f either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 C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good sym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Matter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Antimatter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948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we have evidence tha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necessa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gredi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akharov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stablishing the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asym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matter and antimatter in the Universe obtain , there is no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idence yet for the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violation of nucleon 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, however,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indirect hi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all the forces in nature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 unif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on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ngle 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very high energy (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Grand Unif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particularly if there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US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47920" y="4016520"/>
            <a:ext cx="58975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ies where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forces are unifi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ecause they 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join together quarks and lept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lways lead to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nucleon ins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n decay, sa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e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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mediated by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very heavy force carri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 baseline="-38000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~ 10</a:t>
            </a:r>
            <a:r>
              <a:rPr b="0" lang="en-US" sz="2800" spc="-1" strike="noStrike" baseline="40000">
                <a:solidFill>
                  <a:srgbClr val="3333cc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Ge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lead to the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Unif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for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Life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proton is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very l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ince it is proportional to the mediator mass to the fourth power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38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~ M</a:t>
            </a:r>
            <a:r>
              <a:rPr b="0" lang="en-US" sz="2800" spc="-1" strike="noStrike" baseline="-38000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40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~ 10 </a:t>
            </a:r>
            <a:r>
              <a:rPr b="0" lang="en-US" sz="2800" spc="-1" strike="noStrike" baseline="40000">
                <a:solidFill>
                  <a:srgbClr val="3333cc"/>
                </a:solidFill>
                <a:latin typeface="Times New Roman"/>
              </a:rPr>
              <a:t>35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ea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This lifetime is beyond detection, so there is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no direct 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e existence of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G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830592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nother mechan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weak interactions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[‘t Hooft]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also leads potentially to a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olation of nucleon 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is involves </a:t>
            </a:r>
            <a:r>
              <a:rPr b="0" lang="en-US" sz="2800" spc="-1" strike="noStrike">
                <a:solidFill>
                  <a:srgbClr val="00cc66"/>
                </a:solidFill>
                <a:latin typeface="Times New Roman"/>
              </a:rPr>
              <a:t>quantum  vacuum fluctuation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the possible vacuum states of the </a:t>
            </a:r>
            <a:r>
              <a:rPr b="0" lang="en-US" sz="2800" spc="-1" strike="noStrike">
                <a:solidFill>
                  <a:srgbClr val="00cc66"/>
                </a:solidFill>
                <a:latin typeface="Times New Roman"/>
              </a:rPr>
              <a:t>electroweak the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‘t Hoof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 actually involves a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ol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B+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ut the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prob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it occuring is negligible a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=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(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P~ 10 </a:t>
            </a:r>
            <a:r>
              <a:rPr b="0" lang="en-US" sz="2800" spc="-1" strike="noStrike" baseline="38000">
                <a:solidFill>
                  <a:srgbClr val="00cc99"/>
                </a:solidFill>
                <a:latin typeface="Times New Roman"/>
              </a:rPr>
              <a:t>-160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!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However, effect can be significant in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hot early uni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55674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all the elements now to discuss how </a:t>
            </a:r>
            <a:r>
              <a:rPr b="0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produced in the early Universe. The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simplest scen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ccurs if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Grand Unified theories (GUT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G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generally all 3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akharo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 conditions are satisfi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 Decays of heavy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G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 violate nucleon 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u 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 nucleon # = 2/3) ;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e</a:t>
            </a:r>
            <a:r>
              <a:rPr b="0" lang="en-US" sz="2800" spc="-1" strike="noStrike" baseline="36000">
                <a:solidFill>
                  <a:srgbClr val="ff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(nucleon # = - 1/3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) In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GUTs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tes for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ays are not the same,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re are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CP-violating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                   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_      _ 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X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u u )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X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u u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) In the early Universe, a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~M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decays go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out of equilibr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ions of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context of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U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summarized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neral formula for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ed in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U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two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 r - 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2nd factor depends on the 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rate dif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l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~ 10 </a:t>
            </a:r>
            <a:r>
              <a:rPr b="0" lang="en-US" sz="2400" spc="-1" strike="noStrike" baseline="38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porates the dynamics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ing 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ou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equilibr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early Universe at temperature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~ M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~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it is possible to obtai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 r - 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~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t is difficult to do so since the rate difference involves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highly suppres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P-viola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ces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st case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B+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iol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t 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(B-L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conser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2nd scenari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obtaining a matter-antimatter asymmetry in the Universe makes use of the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‘t Hooft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mechan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85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uzmin, Rubakov, and Shaposhnikov (KR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observed that in the  hot early Universe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‘t Hoo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rocess for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fermion number viol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come very effec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 barrier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ween different vacuum states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decreases at high 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disappears above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T~ 100 GeV~ 10</a:t>
            </a:r>
            <a:r>
              <a:rPr b="0" lang="en-US" sz="2800" spc="-1" strike="noStrike" baseline="30000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u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rgued that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thermal fluctu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x the quantum vacuum states leading to ubiquitous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fermion number vio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early Unive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nergy conser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ives the related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allows one to relate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scale factor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nce one assumes a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quation of st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3(1+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matter domin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0;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radiation domin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/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lecting </a:t>
            </a:r>
            <a:r>
              <a:rPr b="0" lang="en-US" sz="3200" spc="-1" strike="noStrike">
                <a:solidFill>
                  <a:srgbClr val="990000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curvature ter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long as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-1/3), the scale factor grows with time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R(t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/3(1+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362320" y="1905120"/>
                <a:ext cx="30477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76520" y="457200"/>
                <a:ext cx="38098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¨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ρ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5562720" cy="1371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2133720"/>
            <a:ext cx="9144000" cy="48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chanis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s to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(B+L)-viola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cesses which are in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equilibr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Universe for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100 GeV &lt; T &lt; 10</a:t>
            </a:r>
            <a:r>
              <a:rPr b="0" lang="en-US" sz="2800" spc="-1" strike="noStrike" baseline="30000">
                <a:solidFill>
                  <a:srgbClr val="00ff00"/>
                </a:solidFill>
                <a:latin typeface="Times New Roman"/>
              </a:rPr>
              <a:t>12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Ge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is has profound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c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 Because below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T =10</a:t>
            </a:r>
            <a:r>
              <a:rPr b="0" lang="en-US" sz="2800" spc="-1" strike="noStrike" baseline="30000">
                <a:solidFill>
                  <a:srgbClr val="00ff00"/>
                </a:solidFill>
                <a:latin typeface="Times New Roman"/>
              </a:rPr>
              <a:t>12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GeV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B+L)- viola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cesses go back into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equilibr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y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GU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(B+L) -violating asym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ed  earlier in the Universe gets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ra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ost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G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only violate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B+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B-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this renders most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G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neffective for producing </a:t>
            </a:r>
            <a:r>
              <a:rPr b="0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) Because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fermion number viola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cesses go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out of equilibr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gain around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T~ 100 Ge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 the time of the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electroweak phase tran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t may be possible that the matter-antimatter asymmetry in the Universe is actually establishe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citing possibility that </a:t>
            </a:r>
            <a:r>
              <a:rPr b="0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due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nown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lectroweak phys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cesses has been much studied in the 1990s, but the results have been mostly disappoin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, nevertheless, worthwhile describing the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scen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producing </a:t>
            </a:r>
            <a:r>
              <a:rPr b="0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he time of the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 electroweak phase transi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hase transition proceeds by 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ucleation of bub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“new vacuum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there is 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‘t Hoof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rier between the various vacuum states, in the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“old vacuum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ere there is n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‘t Hoo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arri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P-violating proces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bubble wal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matter-antimatter asymmetry is produced. An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xcess of  m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oduced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insi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ubble (and a corresponding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xcess of antim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oduced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outs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bubbl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191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antimatter exc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ra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nce fermion number violating processes are in equilibrium  in 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“old vacuum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matter exc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preserv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ermion number violating processes are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out of equilibr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n 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“new vacuum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fortunately scenario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oes not 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e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 electroweak theo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: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  The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hase tran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t strong enoug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ving the barrier among the quantum vacua still too low. Thus also in 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“new vacuum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ermion number viola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cesses rema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in equilibr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) One finds tha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 r -  r) ~ 10</a:t>
            </a:r>
            <a:r>
              <a:rPr b="0" lang="en-US" sz="2800" spc="-1" strike="noStrike" baseline="34000">
                <a:solidFill>
                  <a:srgbClr val="ff0000"/>
                </a:solidFill>
                <a:latin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because there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t enough  CP vio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bubble walls. So, one cannot get a realistic value for the asymmetry </a:t>
            </a:r>
            <a:r>
              <a:rPr b="0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possible to ameliorate both these troubles if some type of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supersymmetric m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xisted with mass around 100 GeV (as suggested by the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unification of for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one can obtain  </a:t>
            </a:r>
            <a:r>
              <a:rPr b="0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 ~ 4 x 10 </a:t>
            </a:r>
            <a:r>
              <a:rPr b="0" lang="en-US" sz="2800" spc="-1" strike="noStrike" baseline="30000">
                <a:solidFill>
                  <a:srgbClr val="cc0099"/>
                </a:solidFill>
                <a:latin typeface="Times New Roman"/>
              </a:rPr>
              <a:t>-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certain model calculations, the resulting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 scenari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or the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supersymmetric m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quite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constrain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will be testable experimentally in the future with the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H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Qui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4572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unately, anothe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scen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generating </a:t>
            </a:r>
            <a:r>
              <a:rPr b="0" lang="en-US" sz="2800" spc="-1" strike="noStrike">
                <a:solidFill>
                  <a:srgbClr val="6600cc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uggested b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ukugita and Yanagi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soon after th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K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er, now has received a strong experimental boost from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neutrino oscillation experi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istence of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tiny neutrino mas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icely explained by th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see saw mechan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a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per-heavy neutri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 of mas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~ 10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GeV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nected to th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rdinary neutri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uppress this latter state’s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physical st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is neutrino complex are their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own antipartic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o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pton 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is viola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ukugita-Yanagi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makes use precisely of thes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perheavy neutrin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establish a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pton number asym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ff00"/>
                </a:solidFill>
                <a:latin typeface="Times New Roman"/>
              </a:rPr>
              <a:t>12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GeV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early Unive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out of equilibrium, L-violating, and CP-viola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ays of these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super-heavy-neutrin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e can obtain a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lepton number asym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 baseline="-36000">
                <a:solidFill>
                  <a:srgbClr val="cc0099"/>
                </a:solidFill>
                <a:latin typeface="Times New Roman"/>
              </a:rPr>
              <a:t>L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~ 10 </a:t>
            </a:r>
            <a:r>
              <a:rPr b="0" lang="en-US" sz="2800" spc="-1" strike="noStrike" baseline="30000">
                <a:solidFill>
                  <a:srgbClr val="cc0099"/>
                </a:solidFill>
                <a:latin typeface="Times New Roman"/>
              </a:rPr>
              <a:t>-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pton 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symmet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transmuted into a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baryon number asym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inc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pton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 = 1/2( B+L) - 1/2(B-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by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RS mechan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 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ermion number asym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B+L)- asym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gets erased, so effe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 baseline="-30000">
                <a:solidFill>
                  <a:srgbClr val="cc0099"/>
                </a:solidFill>
                <a:latin typeface="Times New Roman"/>
              </a:rPr>
              <a:t>L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~ </a:t>
            </a:r>
            <a:r>
              <a:rPr b="0" lang="en-US" sz="2800" spc="-1" strike="noStrike" baseline="-36000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 baseline="-30000">
                <a:solidFill>
                  <a:srgbClr val="cc0099"/>
                </a:solidFill>
                <a:latin typeface="Times New Roman"/>
              </a:rPr>
              <a:t>B-L</a:t>
            </a:r>
            <a:r>
              <a:rPr b="0" lang="en-US" sz="2800" spc="-1" strike="noStrike" baseline="-36000">
                <a:solidFill>
                  <a:srgbClr val="cc00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~ </a:t>
            </a:r>
            <a:r>
              <a:rPr b="0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 baseline="-36000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~  10 </a:t>
            </a:r>
            <a:r>
              <a:rPr b="0" lang="en-US" sz="2800" spc="-1" strike="noStrike" baseline="30000">
                <a:solidFill>
                  <a:srgbClr val="cc0099"/>
                </a:solidFill>
                <a:latin typeface="Times New Roman"/>
              </a:rPr>
              <a:t>-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 i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ukugita-Yanagi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e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Universe is matter-antimatter asymmetr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cause of subtle properties (including new CP-violating phases) associated with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super-heavy neutrin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oncluding obser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article phys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lps to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eluci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ous aspects of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sm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Nucleosynthe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CMB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mechanisms 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baryogene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DM candid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and is natural framework for describing physics of early Unive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re are importan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p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sm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w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o not yet underst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undamental phys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ost notably  regarding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inf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mechanism behind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dark ener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challenges remai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=0,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one can check that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pan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oes 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e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f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=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verse recollap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to define a 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critical dens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one can rewrite Einstein’s equation (</a:t>
            </a:r>
            <a:r>
              <a:rPr b="0" lang="en-US" sz="3200" spc="-1" strike="noStrike">
                <a:solidFill>
                  <a:srgbClr val="990000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=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/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cc00cc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if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=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le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&gt;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&lt;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=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=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if vacuum energy, </a:t>
            </a:r>
            <a:r>
              <a:rPr b="0" lang="en-US" sz="3200" spc="-1" strike="noStrike">
                <a:solidFill>
                  <a:srgbClr val="00cc66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=V</a:t>
            </a:r>
            <a:r>
              <a:rPr b="0" lang="en-US" sz="3200" spc="-1" strike="noStrike" baseline="-25000">
                <a:solidFill>
                  <a:srgbClr val="00cc66"/>
                </a:solidFill>
                <a:latin typeface="Times New Roman"/>
              </a:rPr>
              <a:t>va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3200" spc="-1" strike="noStrike">
                <a:solidFill>
                  <a:srgbClr val="990000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inates, then there is an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exponential expan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R(t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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/3)</a:t>
            </a:r>
            <a:r>
              <a:rPr b="0" lang="en-US" sz="3200" spc="-1" strike="noStrike" baseline="30000">
                <a:solidFill>
                  <a:srgbClr val="cc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47920" y="1676520"/>
                <a:ext cx="13716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  <m:sSub>
                          <m:e>
                            <m:r>
                              <m:t xml:space="preserve">π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CMBR and Nucleosynthesi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ig Bang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received strong confirmation from the observation of the cosmic background radiation 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MB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the prediction of the fraction of the elements produced by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primordial nucleo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early Universe, reaction rates are fast relative to the expansion [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&gt;&gt;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and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thermal equilibr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stablished.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hoton spectr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at of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lack bo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it will maintain this shape as the Universe expands and cools. This CMBR spectrum has been observed, wit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(2.725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±0.002)°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[</a:t>
            </a:r>
            <a:r>
              <a:rPr b="0" lang="en-US" sz="32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CO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4100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=(2.725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±0.002)°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[</a:t>
            </a:r>
            <a:r>
              <a:rPr b="0" lang="en-US" sz="4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COB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7200" y="2286000"/>
                <a:ext cx="3048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E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5334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Nucleosynthes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riggered by neutrons and protons going out of equilibrium in the Uni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igh temperatu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eutrons and protons are in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quilibr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Universe through the weak inter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n +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 p +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n + e</a:t>
            </a:r>
            <a:r>
              <a:rPr b="0" lang="en-US" sz="3200" spc="-1" strike="noStrike" baseline="30000">
                <a:solidFill>
                  <a:srgbClr val="cc00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 p +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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99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-25000">
                <a:solidFill>
                  <a:srgbClr val="990000"/>
                </a:solidFill>
                <a:latin typeface="Times New Roman"/>
              </a:rPr>
              <a:t>weak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~G</a:t>
            </a:r>
            <a:r>
              <a:rPr b="0" lang="en-US" sz="3200" spc="-1" strike="noStrike" baseline="-25000">
                <a:solidFill>
                  <a:srgbClr val="99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99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 p + e +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</a:t>
            </a:r>
            <a:r>
              <a:rPr b="0" lang="en-US" sz="3200" spc="-1" strike="noStrike" baseline="-25000">
                <a:solidFill>
                  <a:srgbClr val="cc00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lang="en-US" sz="3200" spc="-1" strike="noStrike">
                <a:solidFill>
                  <a:srgbClr val="99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-25000">
                <a:solidFill>
                  <a:srgbClr val="990000"/>
                </a:solidFill>
                <a:latin typeface="Times New Roman"/>
              </a:rPr>
              <a:t>weak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 &gt;&gt; H~ G</a:t>
            </a:r>
            <a:r>
              <a:rPr b="0" lang="en-US" sz="3200" spc="-1" strike="noStrike" baseline="-25000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990000"/>
                </a:solidFill>
                <a:latin typeface="Times New Roman"/>
              </a:rPr>
              <a:t>1/2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T</a:t>
            </a:r>
            <a:r>
              <a:rPr b="0" lang="en-US" sz="32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at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T*~ 1 Me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“freeze out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99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-25000">
                <a:solidFill>
                  <a:srgbClr val="990000"/>
                </a:solidFill>
                <a:latin typeface="Times New Roman"/>
              </a:rPr>
              <a:t>weak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99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and neutrons and proton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cou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th their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rat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being fixed by the Boltzman factor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r>
              <a:rPr b="0" lang="en-US" sz="3200" spc="-1" strike="noStrike" baseline="30000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m/T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04:19:33Z</dcterms:created>
  <dc:creator>Roberto Peccei</dc:creator>
  <dc:description/>
  <dc:language>en-US</dc:language>
  <cp:lastModifiedBy>Roberto Peccei</cp:lastModifiedBy>
  <dcterms:modified xsi:type="dcterms:W3CDTF">2002-08-24T07:46:15Z</dcterms:modified>
  <cp:revision>58</cp:revision>
  <dc:subject/>
  <dc:title>Particle Cosmology</dc:title>
</cp:coreProperties>
</file>